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8.wmf" ContentType="image/x-wmf"/>
  <Override PartName="/ppt/media/image8.png" ContentType="image/png"/>
  <Override PartName="/ppt/media/image13.png" ContentType="image/png"/>
  <Override PartName="/ppt/media/image31.wmf" ContentType="image/x-wmf"/>
  <Override PartName="/ppt/media/image11.png" ContentType="image/png"/>
  <Override PartName="/ppt/media/image32.wmf" ContentType="image/x-wmf"/>
  <Override PartName="/ppt/media/image12.png" ContentType="image/png"/>
  <Override PartName="/ppt/media/image34.wmf" ContentType="image/x-wmf"/>
  <Override PartName="/ppt/media/image14.png" ContentType="image/png"/>
  <Override PartName="/ppt/media/image40.wmf" ContentType="image/x-wmf"/>
  <Override PartName="/ppt/media/image7.png" ContentType="image/png"/>
  <Override PartName="/ppt/media/image35.wmf" ContentType="image/x-wmf"/>
  <Override PartName="/ppt/media/image9.png" ContentType="image/png"/>
  <Override PartName="/ppt/media/image37.wmf" ContentType="image/x-wmf"/>
  <Override PartName="/ppt/media/image39.wmf" ContentType="image/x-wmf"/>
  <Override PartName="/ppt/media/image36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9.wmf" ContentType="image/x-wmf"/>
  <Override PartName="/ppt/media/image1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0912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dt" idx="1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 type="ftr" idx="1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 type="sldNum" idx="1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B24F-F4A7-4E3A-A26B-ABB86B1130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EA6F-5AC3-4313-9821-927B613B5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094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9BCEF-2FC6-4549-A960-A1F87F2B55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C65EC-1D9D-4007-BB0F-452F2F46E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AA224-7ED6-4387-A661-EFA5E511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CB903-5F0C-4DFE-9CFF-FF124B0120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FD5EB-EE04-4EEE-90A4-E393C5E4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6B1F5-821B-441C-880E-66EBCCBB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44B6E-8EF7-4137-B09A-2E52965C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6D2EB-314D-4FE5-AB53-045CC9CA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61175-B49C-4420-B754-FFD20D349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4A42A-C008-424C-A919-41FF05B5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42249-E290-4A0A-912B-479E9FD0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05D77-8240-4789-8E2C-3893EFEE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43CE7-03C5-40AE-B3B2-E644108B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93C6B-1482-4B56-A72F-135FA0D0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B1F9F-833F-4011-A40B-5817F183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7E4D1-AABA-4B59-89FD-CD58FCFD2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E479E-4314-4D4D-B673-50FA26660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6C4C36-0266-4CF7-808D-26B0DB615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FED1A5-696E-469C-A9EC-50F7ECEF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AD0FD5-B40B-4565-8AE2-89351277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B32301-3C5A-4045-8C0F-FF109195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72A653-7D3A-4F3B-84D3-06C52CC9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160B0-296C-415F-BC39-EA28C3A9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9E6F3A-E9DF-4E04-816F-3BEC2468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01A937-EA53-4588-B0F4-A5540CB6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E02C1D-50B7-4689-9C49-11BD74E8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22E249-A9B9-4223-8162-4B39FCBF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9A7C2C-63C5-4C7B-B8C5-64D9ADF62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7B7CE4-1A0D-4447-9471-53F6C1E74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0ADBB9-0CA6-46B8-93D3-5C36B76E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40FFF9-EAA7-41F2-A075-0FE23F47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FB4805-C373-476C-815C-423D0440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616D38-8AF6-4536-8FFD-19B3296D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160CE-EB9F-494B-B46F-36FC3DA2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04D5BD-197F-4173-8238-0BA7E3A6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0407BB-ED7C-45F1-A389-244D414A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AD2C2A-D55D-4C8C-98F6-FF2D7149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EC67F0-3FA7-45E9-A13E-FDE7C630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094400-E995-4876-99F0-B20987F2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EEACA5-EA50-415B-A26E-3C051939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0FEB20-D140-4F5D-A736-73478E9A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1B5F07-BC90-4447-A479-A46B63325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5EC780-DFD7-40CB-9908-1A7A934F1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065EA3-ADE2-4E08-B07F-2F2F91D3C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079D0-5620-4FFB-90C2-3F362C8AB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43F815-D4FE-4B30-9B3B-EBACC383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9A617D-3FB2-4627-BFF4-5D4FA801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9693D7-B8F7-4587-8EB6-3A6D1778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56C204-4041-4730-9379-72FD1B2B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868C0E-203D-4E9F-BCB0-7FA4E5E7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E885F8-D17B-4DE9-880C-79963A3C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8B4D4C-CE33-4237-8A98-7CA50B0C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D8B4C6-571A-4A38-A7A1-E482E745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D26050-9DD6-4EB8-BA8E-15DCD7A3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F1D67C-21B8-45FC-A0F0-19F83D061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F0954-6D95-43C9-ACF7-B2503B07B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C9D472-31DB-4643-BDEC-5E7D375E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288AEF-E944-40CA-930D-9581FAFE72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57A72C-A989-47C3-A375-03AF37E2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6570C4-7E02-4EAC-9C41-00DDCB20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0917E5-B31C-4D1E-B6AB-6987FF8A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940B53-A7FF-433A-978B-3177622A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0F5D73-5D96-4A70-94D4-4C6C02B10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A90585-F967-405A-881E-307C90E9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083FBB-F0B6-4FBC-98F8-8EAF7183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77990F-3AAB-4299-A7B9-150FDA26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14F26-10E6-4154-B0C2-1E65E1BB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5209C7-6C40-42CA-B9C0-9E2A591B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F92E44-50D4-4251-984D-A6AD6BE5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39B307-AC93-42A2-8F3A-F8644EC41A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1022E-7ACE-42B4-B6DA-7BA93546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3FB4C-C12F-4D99-95EB-5BEBAE76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spin-b"/>
          <p:cNvPicPr/>
          <p:nvPr/>
        </p:nvPicPr>
        <p:blipFill>
          <a:blip r:embed="rId2"/>
          <a:stretch/>
        </p:blipFill>
        <p:spPr>
          <a:xfrm>
            <a:off x="380880" y="380880"/>
            <a:ext cx="8153640" cy="64771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9714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5AE2-DC63-4C6D-85A3-C94D002D0084}" type="datetime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800064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25FD-2DF4-4F73-BF06-6692833BB123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Picture 27" descr="logo.gif"/>
          <p:cNvPicPr/>
          <p:nvPr/>
        </p:nvPicPr>
        <p:blipFill>
          <a:blip r:embed="rId3"/>
          <a:stretch/>
        </p:blipFill>
        <p:spPr>
          <a:xfrm>
            <a:off x="0" y="6086520"/>
            <a:ext cx="1152360" cy="77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19" descr="spin-b"/>
          <p:cNvPicPr/>
          <p:nvPr/>
        </p:nvPicPr>
        <p:blipFill>
          <a:blip r:embed="rId2"/>
          <a:stretch/>
        </p:blipFill>
        <p:spPr>
          <a:xfrm>
            <a:off x="380880" y="380880"/>
            <a:ext cx="8153640" cy="6477120"/>
          </a:xfrm>
          <a:prstGeom prst="rect">
            <a:avLst/>
          </a:prstGeom>
          <a:ln w="0">
            <a:noFill/>
          </a:ln>
        </p:spPr>
      </p:pic>
      <p:grpSp>
        <p:nvGrpSpPr>
          <p:cNvPr id="42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2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3" name="Picture 27" descr="logo.gif"/>
          <p:cNvPicPr/>
          <p:nvPr/>
        </p:nvPicPr>
        <p:blipFill>
          <a:blip r:embed="rId3"/>
          <a:stretch/>
        </p:blipFill>
        <p:spPr>
          <a:xfrm>
            <a:off x="0" y="6086520"/>
            <a:ext cx="1152360" cy="77148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19" descr="spin-b"/>
          <p:cNvPicPr/>
          <p:nvPr/>
        </p:nvPicPr>
        <p:blipFill>
          <a:blip r:embed="rId2"/>
          <a:stretch/>
        </p:blipFill>
        <p:spPr>
          <a:xfrm>
            <a:off x="380880" y="380880"/>
            <a:ext cx="8153640" cy="6477120"/>
          </a:xfrm>
          <a:prstGeom prst="rect">
            <a:avLst/>
          </a:prstGeom>
          <a:ln w="0">
            <a:noFill/>
          </a:ln>
        </p:spPr>
      </p:pic>
      <p:grpSp>
        <p:nvGrpSpPr>
          <p:cNvPr id="47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7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3" name="Picture 27" descr="logo.gif"/>
          <p:cNvPicPr/>
          <p:nvPr/>
        </p:nvPicPr>
        <p:blipFill>
          <a:blip r:embed="rId3"/>
          <a:stretch/>
        </p:blipFill>
        <p:spPr>
          <a:xfrm>
            <a:off x="0" y="6086520"/>
            <a:ext cx="1152360" cy="77148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19" descr="spin-b"/>
          <p:cNvPicPr/>
          <p:nvPr/>
        </p:nvPicPr>
        <p:blipFill>
          <a:blip r:embed="rId2"/>
          <a:stretch/>
        </p:blipFill>
        <p:spPr>
          <a:xfrm>
            <a:off x="380880" y="380880"/>
            <a:ext cx="8153640" cy="6477120"/>
          </a:xfrm>
          <a:prstGeom prst="rect">
            <a:avLst/>
          </a:prstGeom>
          <a:ln w="0">
            <a:noFill/>
          </a:ln>
        </p:spPr>
      </p:pic>
      <p:grpSp>
        <p:nvGrpSpPr>
          <p:cNvPr id="52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3" name="Picture 27" descr="logo.gif"/>
          <p:cNvPicPr/>
          <p:nvPr/>
        </p:nvPicPr>
        <p:blipFill>
          <a:blip r:embed="rId3"/>
          <a:stretch/>
        </p:blipFill>
        <p:spPr>
          <a:xfrm>
            <a:off x="0" y="6086520"/>
            <a:ext cx="1152360" cy="77148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19" descr="spin-b"/>
          <p:cNvPicPr/>
          <p:nvPr/>
        </p:nvPicPr>
        <p:blipFill>
          <a:blip r:embed="rId2"/>
          <a:stretch/>
        </p:blipFill>
        <p:spPr>
          <a:xfrm>
            <a:off x="380880" y="380880"/>
            <a:ext cx="8153640" cy="6477120"/>
          </a:xfrm>
          <a:prstGeom prst="rect">
            <a:avLst/>
          </a:prstGeom>
          <a:ln w="0">
            <a:noFill/>
          </a:ln>
        </p:spPr>
      </p:pic>
      <p:grpSp>
        <p:nvGrpSpPr>
          <p:cNvPr id="57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7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3" name="Picture 27" descr="logo.gif"/>
          <p:cNvPicPr/>
          <p:nvPr/>
        </p:nvPicPr>
        <p:blipFill>
          <a:blip r:embed="rId3"/>
          <a:stretch/>
        </p:blipFill>
        <p:spPr>
          <a:xfrm>
            <a:off x="0" y="6086520"/>
            <a:ext cx="1152360" cy="77148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19" descr="spin-b"/>
          <p:cNvPicPr/>
          <p:nvPr/>
        </p:nvPicPr>
        <p:blipFill>
          <a:blip r:embed="rId2"/>
          <a:stretch/>
        </p:blipFill>
        <p:spPr>
          <a:xfrm>
            <a:off x="380880" y="380880"/>
            <a:ext cx="8153640" cy="6477120"/>
          </a:xfrm>
          <a:prstGeom prst="rect">
            <a:avLst/>
          </a:prstGeom>
          <a:ln w="0">
            <a:noFill/>
          </a:ln>
        </p:spPr>
      </p:pic>
      <p:grpSp>
        <p:nvGrpSpPr>
          <p:cNvPr id="62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2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3" name="Picture 27" descr="logo.gif"/>
          <p:cNvPicPr/>
          <p:nvPr/>
        </p:nvPicPr>
        <p:blipFill>
          <a:blip r:embed="rId3"/>
          <a:stretch/>
        </p:blipFill>
        <p:spPr>
          <a:xfrm>
            <a:off x="0" y="6086520"/>
            <a:ext cx="1152360" cy="771480"/>
          </a:xfrm>
          <a:prstGeom prst="rect">
            <a:avLst/>
          </a:prstGeom>
          <a:ln w="0">
            <a:noFill/>
          </a:ln>
        </p:spPr>
      </p:pic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Picture 19" descr="spin-b"/>
          <p:cNvPicPr/>
          <p:nvPr/>
        </p:nvPicPr>
        <p:blipFill>
          <a:blip r:embed="rId2"/>
          <a:stretch/>
        </p:blipFill>
        <p:spPr>
          <a:xfrm>
            <a:off x="380880" y="380880"/>
            <a:ext cx="8153640" cy="6477120"/>
          </a:xfrm>
          <a:prstGeom prst="rect">
            <a:avLst/>
          </a:prstGeom>
          <a:ln w="0">
            <a:noFill/>
          </a:ln>
        </p:spPr>
      </p:pic>
      <p:grpSp>
        <p:nvGrpSpPr>
          <p:cNvPr id="67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7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3" name="Picture 27" descr="logo.gif"/>
          <p:cNvPicPr/>
          <p:nvPr/>
        </p:nvPicPr>
        <p:blipFill>
          <a:blip r:embed="rId3"/>
          <a:stretch/>
        </p:blipFill>
        <p:spPr>
          <a:xfrm>
            <a:off x="0" y="6086520"/>
            <a:ext cx="1152360" cy="771480"/>
          </a:xfrm>
          <a:prstGeom prst="rect">
            <a:avLst/>
          </a:prstGeom>
          <a:ln w="0">
            <a:noFill/>
          </a:ln>
        </p:spPr>
      </p:pic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2EA7-2C87-4736-A8AD-A3B3D054655B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59BB-043D-4D8D-89B5-7EA98379C369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5092-1B7D-489A-98C4-6191617208AB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C2FE-728C-4FAB-8605-3B27C42E01C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016A-1E51-4CB7-9595-30ED6F8B81C5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03F3-97EE-4139-8576-E88179B1E894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FE1E-10F3-4DAE-8CB1-E64A7E3C1BC3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5F0B-DFB1-4326-AABC-4D1825A6C29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3" descr="spin-b"/>
          <p:cNvPicPr/>
          <p:nvPr/>
        </p:nvPicPr>
        <p:blipFill>
          <a:blip r:embed="rId2"/>
          <a:stretch/>
        </p:blipFill>
        <p:spPr>
          <a:xfrm>
            <a:off x="380880" y="0"/>
            <a:ext cx="81536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18" name="Rectangle 4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5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Group 6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21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31" name="Picture 40" descr="logo.gif"/>
          <p:cNvPicPr/>
          <p:nvPr/>
        </p:nvPicPr>
        <p:blipFill>
          <a:blip r:embed="rId3"/>
          <a:stretch/>
        </p:blipFill>
        <p:spPr>
          <a:xfrm>
            <a:off x="0" y="6086520"/>
            <a:ext cx="1152360" cy="77148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5"/>
          </p:nvPr>
        </p:nvSpPr>
        <p:spPr>
          <a:xfrm>
            <a:off x="29714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6EFC-51B1-4A73-9D50-EED4DF565BCC}" type="datetime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6"/>
          </p:nvPr>
        </p:nvSpPr>
        <p:spPr>
          <a:xfrm>
            <a:off x="800064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AC21-EBDD-453B-9894-7AE2D832097F}" type="slidenum"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9" descr="spin-b"/>
          <p:cNvPicPr/>
          <p:nvPr/>
        </p:nvPicPr>
        <p:blipFill>
          <a:blip r:embed="rId2"/>
          <a:stretch/>
        </p:blipFill>
        <p:spPr>
          <a:xfrm>
            <a:off x="380880" y="380880"/>
            <a:ext cx="8153640" cy="6477120"/>
          </a:xfrm>
          <a:prstGeom prst="rect">
            <a:avLst/>
          </a:prstGeom>
          <a:ln w="0">
            <a:noFill/>
          </a:ln>
        </p:spPr>
      </p:pic>
      <p:grpSp>
        <p:nvGrpSpPr>
          <p:cNvPr id="27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7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Picture 27" descr="logo.gif"/>
          <p:cNvPicPr/>
          <p:nvPr/>
        </p:nvPicPr>
        <p:blipFill>
          <a:blip r:embed="rId3"/>
          <a:stretch/>
        </p:blipFill>
        <p:spPr>
          <a:xfrm>
            <a:off x="0" y="6086520"/>
            <a:ext cx="1152360" cy="77148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9" descr="spin-b"/>
          <p:cNvPicPr/>
          <p:nvPr/>
        </p:nvPicPr>
        <p:blipFill>
          <a:blip r:embed="rId2"/>
          <a:stretch/>
        </p:blipFill>
        <p:spPr>
          <a:xfrm>
            <a:off x="380880" y="380880"/>
            <a:ext cx="8153640" cy="6477120"/>
          </a:xfrm>
          <a:prstGeom prst="rect">
            <a:avLst/>
          </a:prstGeom>
          <a:ln w="0">
            <a:noFill/>
          </a:ln>
        </p:spPr>
      </p:pic>
      <p:grpSp>
        <p:nvGrpSpPr>
          <p:cNvPr id="32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2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3" name="Picture 27" descr="logo.gif"/>
          <p:cNvPicPr/>
          <p:nvPr/>
        </p:nvPicPr>
        <p:blipFill>
          <a:blip r:embed="rId3"/>
          <a:stretch/>
        </p:blipFill>
        <p:spPr>
          <a:xfrm>
            <a:off x="0" y="6086520"/>
            <a:ext cx="1152360" cy="77148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19" descr="spin-b"/>
          <p:cNvPicPr/>
          <p:nvPr/>
        </p:nvPicPr>
        <p:blipFill>
          <a:blip r:embed="rId2"/>
          <a:stretch/>
        </p:blipFill>
        <p:spPr>
          <a:xfrm>
            <a:off x="380880" y="380880"/>
            <a:ext cx="8153640" cy="6477120"/>
          </a:xfrm>
          <a:prstGeom prst="rect">
            <a:avLst/>
          </a:prstGeom>
          <a:ln w="0">
            <a:noFill/>
          </a:ln>
        </p:spPr>
      </p:pic>
      <p:grpSp>
        <p:nvGrpSpPr>
          <p:cNvPr id="37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7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3" name="Picture 27" descr="logo.gif"/>
          <p:cNvPicPr/>
          <p:nvPr/>
        </p:nvPicPr>
        <p:blipFill>
          <a:blip r:embed="rId3"/>
          <a:stretch/>
        </p:blipFill>
        <p:spPr>
          <a:xfrm>
            <a:off x="0" y="6086520"/>
            <a:ext cx="1152360" cy="77148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17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0AC5-DA54-4B69-898A-91BF2A0006C9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19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C986-D6C1-4C86-BBA4-7D11AE485CF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Sudakov Double Logs in small-x formalis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1523880" y="4419360"/>
            <a:ext cx="7391520" cy="19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ng Yu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wrence Berkeley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s: Mueller, Xiao, Yuan, PRL110, 082301 (2013); to be submitte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QCD dynamics in cold nucl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5410080" y="1980720"/>
            <a:ext cx="3276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Inclusive observ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IS structure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+A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h+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Gluon density in integral form or limited access to the kt-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Full exploration of the dynamics needs kt-dependence in hard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Date Placeholder 3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2066-CB97-4CBD-8CC2-E03B77E5A428}" type="datetime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lide Number Placeholder 4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36D3-8383-4802-B18C-E008C1DA34F7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5" descr="Screen shot 2012-08-15 at 10.16.17 AM.png"/>
          <p:cNvPicPr/>
          <p:nvPr/>
        </p:nvPicPr>
        <p:blipFill>
          <a:blip r:embed="rId1"/>
          <a:stretch/>
        </p:blipFill>
        <p:spPr>
          <a:xfrm>
            <a:off x="609480" y="1676520"/>
            <a:ext cx="48340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Kt-dependent observ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5333760" y="3733920"/>
            <a:ext cx="33526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Hard processes probe the kt-dependent gluon distributions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aturation phenomena manifest in the observ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Date Placeholder 3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A653-5EF4-4479-BA72-7352652409FE}" type="datetime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lide Number Placeholder 4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4D2B-744E-4D76-ACB9-15B2BE2B82E9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Picture 5" descr="Screen shot 2012-08-15 at 10.16.17 AM.png"/>
          <p:cNvPicPr/>
          <p:nvPr/>
        </p:nvPicPr>
        <p:blipFill>
          <a:blip r:embed="rId1"/>
          <a:stretch/>
        </p:blipFill>
        <p:spPr>
          <a:xfrm>
            <a:off x="380880" y="1676520"/>
            <a:ext cx="4834080" cy="4419360"/>
          </a:xfrm>
          <a:prstGeom prst="rect">
            <a:avLst/>
          </a:prstGeom>
          <a:ln w="0">
            <a:noFill/>
          </a:ln>
        </p:spPr>
      </p:pic>
      <p:sp>
        <p:nvSpPr>
          <p:cNvPr id="792" name="TextBox 6"/>
          <p:cNvSpPr/>
          <p:nvPr/>
        </p:nvSpPr>
        <p:spPr>
          <a:xfrm>
            <a:off x="2674440" y="48769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818ff"/>
                </a:solidFill>
                <a:latin typeface="Arial"/>
              </a:rPr>
              <a:t>C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7" descr="Screen shot 2012-08-15 at 11.36.49 AM.png"/>
          <p:cNvPicPr/>
          <p:nvPr/>
        </p:nvPicPr>
        <p:blipFill>
          <a:blip r:embed="rId2"/>
          <a:stretch/>
        </p:blipFill>
        <p:spPr>
          <a:xfrm>
            <a:off x="5715000" y="1676520"/>
            <a:ext cx="2417760" cy="1753920"/>
          </a:xfrm>
          <a:prstGeom prst="rect">
            <a:avLst/>
          </a:prstGeom>
          <a:ln w="0">
            <a:noFill/>
          </a:ln>
        </p:spPr>
      </p:pic>
      <p:sp>
        <p:nvSpPr>
          <p:cNvPr id="794" name="Block Arc 10"/>
          <p:cNvSpPr/>
          <p:nvPr/>
        </p:nvSpPr>
        <p:spPr>
          <a:xfrm rot="5079000">
            <a:off x="7448040" y="2284200"/>
            <a:ext cx="696960" cy="271440"/>
          </a:xfrm>
          <a:custGeom>
            <a:avLst/>
            <a:gdLst/>
            <a:ahLst/>
            <a:rect l="l" t="t" r="r" b="b"/>
            <a:pathLst>
              <a:path w="696912" h="271463">
                <a:moveTo>
                  <a:pt x="0" y="135732"/>
                </a:moveTo>
                <a:cubicBezTo>
                  <a:pt x="0" y="60769"/>
                  <a:pt x="156009" y="0"/>
                  <a:pt x="348456" y="0"/>
                </a:cubicBezTo>
                <a:cubicBezTo>
                  <a:pt x="540903" y="0"/>
                  <a:pt x="696912" y="60769"/>
                  <a:pt x="696912" y="135732"/>
                </a:cubicBezTo>
                <a:lnTo>
                  <a:pt x="629046" y="135732"/>
                </a:lnTo>
                <a:cubicBezTo>
                  <a:pt x="629046" y="98251"/>
                  <a:pt x="503422" y="67866"/>
                  <a:pt x="348456" y="67866"/>
                </a:cubicBezTo>
                <a:cubicBezTo>
                  <a:pt x="193490" y="67866"/>
                  <a:pt x="67866" y="98251"/>
                  <a:pt x="67866" y="135732"/>
                </a:cubicBezTo>
                <a:lnTo>
                  <a:pt x="0" y="135732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11"/>
          <p:cNvSpPr/>
          <p:nvPr/>
        </p:nvSpPr>
        <p:spPr>
          <a:xfrm>
            <a:off x="8015400" y="2209680"/>
            <a:ext cx="90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&gt;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12"/>
          <p:cNvSpPr/>
          <p:nvPr/>
        </p:nvSpPr>
        <p:spPr>
          <a:xfrm>
            <a:off x="7171200" y="2819520"/>
            <a:ext cx="41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Sudakov resummation at small-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ake massive scalar particle production p+A-&gt;H+X as an example to demonstrate the double logarithms, and resu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Date Placeholder 3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CCF7-F330-4131-A594-E6D4957ADDC4}" type="datetime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4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91ED-C221-45A2-8D40-F48D5C85EB5B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Picture 5" descr="Screen shot 2012-08-15 at 1.40.58 PM.png"/>
          <p:cNvPicPr/>
          <p:nvPr/>
        </p:nvPicPr>
        <p:blipFill>
          <a:blip r:embed="rId1"/>
          <a:stretch/>
        </p:blipFill>
        <p:spPr>
          <a:xfrm>
            <a:off x="1295280" y="4876920"/>
            <a:ext cx="6413760" cy="82548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6" descr="Screen shot 2012-08-15 at 1.41.06 PM.png"/>
          <p:cNvPicPr/>
          <p:nvPr/>
        </p:nvPicPr>
        <p:blipFill>
          <a:blip r:embed="rId2"/>
          <a:stretch/>
        </p:blipFill>
        <p:spPr>
          <a:xfrm>
            <a:off x="1676520" y="5867280"/>
            <a:ext cx="6019560" cy="60804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7" descr="Screen shot 2012-08-15 at 1.43.01 PM.png"/>
          <p:cNvPicPr/>
          <p:nvPr/>
        </p:nvPicPr>
        <p:blipFill>
          <a:blip r:embed="rId3"/>
          <a:stretch/>
        </p:blipFill>
        <p:spPr>
          <a:xfrm>
            <a:off x="3124080" y="3048120"/>
            <a:ext cx="2667240" cy="1616040"/>
          </a:xfrm>
          <a:prstGeom prst="rect">
            <a:avLst/>
          </a:prstGeom>
          <a:ln w="0">
            <a:noFill/>
          </a:ln>
        </p:spPr>
      </p:pic>
      <p:sp>
        <p:nvSpPr>
          <p:cNvPr id="804" name="Oval 8"/>
          <p:cNvSpPr/>
          <p:nvPr/>
        </p:nvSpPr>
        <p:spPr>
          <a:xfrm>
            <a:off x="3200400" y="3276720"/>
            <a:ext cx="1522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5" name="Straight Arrow Connector 10"/>
          <p:cNvCxnSpPr/>
          <p:nvPr/>
        </p:nvCxnSpPr>
        <p:spPr>
          <a:xfrm>
            <a:off x="2743200" y="3428640"/>
            <a:ext cx="5342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6" name="Straight Connector 13"/>
          <p:cNvSpPr/>
          <p:nvPr/>
        </p:nvSpPr>
        <p:spPr>
          <a:xfrm flipV="1">
            <a:off x="3276720" y="31240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Straight Connector 16"/>
          <p:cNvSpPr/>
          <p:nvPr/>
        </p:nvSpPr>
        <p:spPr>
          <a:xfrm flipV="1">
            <a:off x="3352680" y="320004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traight Connector 17"/>
          <p:cNvSpPr/>
          <p:nvPr/>
        </p:nvSpPr>
        <p:spPr>
          <a:xfrm flipV="1">
            <a:off x="3330720" y="3124080"/>
            <a:ext cx="40320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Box 19"/>
          <p:cNvSpPr/>
          <p:nvPr/>
        </p:nvSpPr>
        <p:spPr>
          <a:xfrm>
            <a:off x="2298240" y="2971800"/>
            <a:ext cx="49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20"/>
          <p:cNvSpPr/>
          <p:nvPr/>
        </p:nvSpPr>
        <p:spPr>
          <a:xfrm>
            <a:off x="5432760" y="3124080"/>
            <a:ext cx="69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1" name="Straight Arrow Connector 22"/>
          <p:cNvCxnSpPr/>
          <p:nvPr/>
        </p:nvCxnSpPr>
        <p:spPr>
          <a:xfrm>
            <a:off x="4723920" y="4190760"/>
            <a:ext cx="68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2" name="TextBox 23"/>
          <p:cNvSpPr/>
          <p:nvPr/>
        </p:nvSpPr>
        <p:spPr>
          <a:xfrm>
            <a:off x="5531400" y="403848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-gluon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Curved Left Arrow 24"/>
          <p:cNvSpPr/>
          <p:nvPr/>
        </p:nvSpPr>
        <p:spPr>
          <a:xfrm>
            <a:off x="8001000" y="4343400"/>
            <a:ext cx="304920" cy="1066680"/>
          </a:xfrm>
          <a:custGeom>
            <a:avLst/>
            <a:gdLst>
              <a:gd name="textAreaLeft" fmla="*/ 40680 w 304920"/>
              <a:gd name="textAreaRight" fmla="*/ 264240 w 304920"/>
              <a:gd name="textAreaTop" fmla="*/ 237960 h 1066680"/>
              <a:gd name="textAreaBottom" fmla="*/ 7905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643" stAng="-5400000" swAng="5400000"/>
                <a:lnTo>
                  <a:pt x="21600" y="11185"/>
                </a:lnTo>
                <a:arcTo wR="21600" hR="9643" stAng="0" swAng="3597406"/>
                <a:lnTo>
                  <a:pt x="5400" y="21294"/>
                </a:lnTo>
                <a:lnTo>
                  <a:pt x="0" y="20057"/>
                </a:lnTo>
                <a:lnTo>
                  <a:pt x="5400" y="18208"/>
                </a:lnTo>
                <a:lnTo>
                  <a:pt x="5400" y="18980"/>
                </a:lnTo>
                <a:arcTo wR="21600" hR="9643" stAng="3597406" swAng="-3474356"/>
                <a:lnTo>
                  <a:pt x="21531" y="10414"/>
                </a:lnTo>
                <a:arcTo wR="21600" hR="9643" stAng="-123050" swAng="-5276950"/>
                <a:close/>
              </a:path>
              <a:path fill="darkenLess" w="21600" h="21600">
                <a:moveTo>
                  <a:pt x="0" y="0"/>
                </a:moveTo>
                <a:arcTo wR="21600" hR="9643" stAng="-5400000" swAng="5400000"/>
                <a:lnTo>
                  <a:pt x="21600" y="11185"/>
                </a:lnTo>
                <a:arcTo wR="21600" hR="9643" stAng="0" swAng="-123050"/>
                <a:lnTo>
                  <a:pt x="21531" y="10414"/>
                </a:lnTo>
                <a:arcTo wR="21600" hR="9643" stAng="-123050" swAng="-5276950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25"/>
          <p:cNvSpPr/>
          <p:nvPr/>
        </p:nvSpPr>
        <p:spPr>
          <a:xfrm>
            <a:off x="4038480" y="4419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19"/>
          <p:cNvSpPr/>
          <p:nvPr/>
        </p:nvSpPr>
        <p:spPr>
          <a:xfrm>
            <a:off x="3593520" y="4267080"/>
            <a:ext cx="49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Explicit one-loop calc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Date Placeholder 3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02C5-8F2B-49F3-B7F5-4E980B69ACB7}" type="datetime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Slide Number Placeholder 4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ED81-7A91-46A7-9CBE-6691025DF853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Picture 6" descr="Screen shot 2012-08-15 at 1.50.27 PM.png"/>
          <p:cNvPicPr/>
          <p:nvPr/>
        </p:nvPicPr>
        <p:blipFill>
          <a:blip r:embed="rId1"/>
          <a:stretch/>
        </p:blipFill>
        <p:spPr>
          <a:xfrm>
            <a:off x="457200" y="1828800"/>
            <a:ext cx="4343400" cy="2297160"/>
          </a:xfrm>
          <a:prstGeom prst="rect">
            <a:avLst/>
          </a:prstGeom>
          <a:ln w="0">
            <a:noFill/>
          </a:ln>
        </p:spPr>
      </p:pic>
      <p:sp>
        <p:nvSpPr>
          <p:cNvPr id="820" name="Plus 9"/>
          <p:cNvSpPr/>
          <p:nvPr/>
        </p:nvSpPr>
        <p:spPr>
          <a:xfrm>
            <a:off x="4952880" y="2743200"/>
            <a:ext cx="533520" cy="457200"/>
          </a:xfrm>
          <a:custGeom>
            <a:avLst/>
            <a:gdLst/>
            <a:ahLst/>
            <a:rect l="l" t="t" r="r" b="b"/>
            <a:pathLst>
              <a:path w="533400" h="457200">
                <a:moveTo>
                  <a:pt x="70702" y="174833"/>
                </a:moveTo>
                <a:lnTo>
                  <a:pt x="212933" y="174833"/>
                </a:lnTo>
                <a:lnTo>
                  <a:pt x="212933" y="60602"/>
                </a:lnTo>
                <a:lnTo>
                  <a:pt x="320467" y="60602"/>
                </a:lnTo>
                <a:lnTo>
                  <a:pt x="320467" y="174833"/>
                </a:lnTo>
                <a:lnTo>
                  <a:pt x="462698" y="174833"/>
                </a:lnTo>
                <a:lnTo>
                  <a:pt x="462698" y="282367"/>
                </a:lnTo>
                <a:lnTo>
                  <a:pt x="320467" y="282367"/>
                </a:lnTo>
                <a:lnTo>
                  <a:pt x="320467" y="396598"/>
                </a:lnTo>
                <a:lnTo>
                  <a:pt x="212933" y="396598"/>
                </a:lnTo>
                <a:lnTo>
                  <a:pt x="212933" y="282367"/>
                </a:lnTo>
                <a:lnTo>
                  <a:pt x="70702" y="282367"/>
                </a:lnTo>
                <a:lnTo>
                  <a:pt x="70702" y="174833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457200" y="4952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ollinear divergenc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DGLAP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mall-x divergenc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BK-type 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ominguiz-Mueller-Munier-Xiao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" name="Picture 11" descr="Screen shot 2012-08-15 at 1.50.43 PM.png"/>
          <p:cNvPicPr/>
          <p:nvPr/>
        </p:nvPicPr>
        <p:blipFill>
          <a:blip r:embed="rId2"/>
          <a:stretch/>
        </p:blipFill>
        <p:spPr>
          <a:xfrm>
            <a:off x="5688000" y="2362320"/>
            <a:ext cx="3456000" cy="11430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1" descr="Screen shot 2012-08-16 at 9.10.05 AM.png"/>
          <p:cNvPicPr/>
          <p:nvPr/>
        </p:nvPicPr>
        <p:blipFill>
          <a:blip r:embed="rId3"/>
          <a:stretch/>
        </p:blipFill>
        <p:spPr>
          <a:xfrm>
            <a:off x="457200" y="4191120"/>
            <a:ext cx="837900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oft vs Collinear glu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Radiated gluon momen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oft gluon, 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α~β&lt;&lt;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ollinear gluon, 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α~1, β&lt;&lt;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mall-x collinear gluon, 1-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β&lt;&lt;1, α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Rapidity dive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Date Placeholder 3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E87B-5F51-4515-BB7C-8B945FB49646}" type="datetime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lide Number Placeholder 4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FCC5-3F70-4738-B868-7AA334079E93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Picture 5" descr=""/>
          <p:cNvPicPr/>
          <p:nvPr/>
        </p:nvPicPr>
        <p:blipFill>
          <a:blip r:embed="rId1"/>
          <a:stretch/>
        </p:blipFill>
        <p:spPr>
          <a:xfrm>
            <a:off x="2514600" y="2514600"/>
            <a:ext cx="44258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Examp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457200" y="37339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near gluon from the pro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near gluon from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 gluon to Sudakov double lo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Date Placeholder 3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1653D-4B5C-4733-83CD-850F56D15C4F}" type="datetime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lide Number Placeholder 4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2CAA-E963-4809-9C5A-D30BA247FF06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Picture 9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03884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457200" y="41148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contributes to small-x collinear glu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Date Placeholder 3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E5BA-D9BF-48FC-9782-6247EA4FCA34}" type="datetime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lide Number Placeholder 4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4EC9-2156-486B-89B8-A5772B46D356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Picture 5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59673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Final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ouble logs at one-loop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ollins-Soper-Sterman resu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Date Placeholder 3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AC10-142F-4D58-854B-93C902B85CB6}" type="datetime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Slide Number Placeholder 4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1766-7A0F-4A91-8F3D-8939C121E6D2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Picture 5" descr="Screen shot 2012-08-15 at 1.54.36 PM.png"/>
          <p:cNvPicPr/>
          <p:nvPr/>
        </p:nvPicPr>
        <p:blipFill>
          <a:blip r:embed="rId1"/>
          <a:stretch/>
        </p:blipFill>
        <p:spPr>
          <a:xfrm>
            <a:off x="1219320" y="2362320"/>
            <a:ext cx="7200720" cy="141768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6" descr="Screen shot 2012-08-15 at 1.54.47 PM.png"/>
          <p:cNvPicPr/>
          <p:nvPr/>
        </p:nvPicPr>
        <p:blipFill>
          <a:blip r:embed="rId2"/>
          <a:stretch/>
        </p:blipFill>
        <p:spPr>
          <a:xfrm>
            <a:off x="914400" y="4648320"/>
            <a:ext cx="80136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Slide Number Placeholder 4"/>
          <p:cNvSpPr/>
          <p:nvPr/>
        </p:nvSpPr>
        <p:spPr>
          <a:xfrm>
            <a:off x="4648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C007-6245-4267-A730-EBE047FCF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Collins-Soper-Sterman Resum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Large Logs are re-summed by solving the energy evolution equation of the TM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K and G obey the renormalization group eq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he large logs will be resummed into the exponential form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,B,C functions are perturbative calcu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5" descr="txp_fig"/>
          <p:cNvPicPr/>
          <p:nvPr/>
        </p:nvPicPr>
        <p:blipFill>
          <a:blip r:embed="rId1"/>
          <a:stretch/>
        </p:blipFill>
        <p:spPr>
          <a:xfrm>
            <a:off x="1143000" y="2286000"/>
            <a:ext cx="6705720" cy="681120"/>
          </a:xfrm>
          <a:prstGeom prst="rect">
            <a:avLst/>
          </a:prstGeom>
          <a:ln w="0">
            <a:noFill/>
          </a:ln>
        </p:spPr>
      </p:pic>
      <p:pic>
        <p:nvPicPr>
          <p:cNvPr id="849" name="Picture 4" descr="txp_fig"/>
          <p:cNvPicPr/>
          <p:nvPr/>
        </p:nvPicPr>
        <p:blipFill>
          <a:blip r:embed="rId2"/>
          <a:stretch/>
        </p:blipFill>
        <p:spPr>
          <a:xfrm>
            <a:off x="2286000" y="3505320"/>
            <a:ext cx="2743200" cy="538200"/>
          </a:xfrm>
          <a:prstGeom prst="rect">
            <a:avLst/>
          </a:prstGeom>
          <a:ln w="0">
            <a:noFill/>
          </a:ln>
        </p:spPr>
      </p:pic>
      <p:pic>
        <p:nvPicPr>
          <p:cNvPr id="850" name="Picture 5" descr="txp_fig"/>
          <p:cNvPicPr/>
          <p:nvPr/>
        </p:nvPicPr>
        <p:blipFill>
          <a:blip r:embed="rId3"/>
          <a:stretch/>
        </p:blipFill>
        <p:spPr>
          <a:xfrm>
            <a:off x="914400" y="4800600"/>
            <a:ext cx="739152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udakov double logs can be re-summed consistently in the small-x form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Kinematics of double logs and small-x evolution are well sepa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oft vs collinear glu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If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  <a:ea typeface="Comic Sans MS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is small, back to dilute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If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Q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  <a:ea typeface="Comic Sans MS"/>
              </a:rPr>
              <a:t>s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 is large (~Q)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, we can safely neglect the Sudakov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Date Placeholder 3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2AA2-263F-4117-8074-777935CB0EB9}" type="datetime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lide Number Placeholder 4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4501-F7FD-407A-9B2A-81AEF934683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Out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udakov double logarithms in hard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BFKL resummation at small-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onsistent resummation of both logarithms (Higgs boson production at extreme high energ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Other hard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Date Placeholder 3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85C6-EF4A-4242-91BE-C875C9CA42A3}" type="datetime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4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BE98-20E7-4F14-B45D-48895D816A20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hoton-Jet cor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ing or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Date Placeholder 3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518E-D537-4EF5-9A55-93155DBBAE6D}" type="datetime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0586-B076-47F8-8902-EF23E19F3269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Picture 5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6110280" cy="2019240"/>
          </a:xfrm>
          <a:prstGeom prst="rect">
            <a:avLst/>
          </a:prstGeom>
          <a:ln w="0">
            <a:noFill/>
          </a:ln>
        </p:spPr>
      </p:pic>
      <p:sp>
        <p:nvSpPr>
          <p:cNvPr id="860" name="TextBox 6"/>
          <p:cNvSpPr/>
          <p:nvPr/>
        </p:nvSpPr>
        <p:spPr>
          <a:xfrm>
            <a:off x="2760480" y="4952880"/>
            <a:ext cx="39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pole glu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BK-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Date Placeholder 3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CA4B-A56B-4191-9FE2-DD6C03F222A5}" type="datetime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lide Number Placeholder 4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C6AE-D9AA-4A23-A3FC-14110ABFC15B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5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2578320" cy="176832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6" descr=""/>
          <p:cNvPicPr/>
          <p:nvPr/>
        </p:nvPicPr>
        <p:blipFill>
          <a:blip r:embed="rId2"/>
          <a:stretch/>
        </p:blipFill>
        <p:spPr>
          <a:xfrm>
            <a:off x="1828800" y="3505320"/>
            <a:ext cx="2362320" cy="186192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7" descr=""/>
          <p:cNvPicPr/>
          <p:nvPr/>
        </p:nvPicPr>
        <p:blipFill>
          <a:blip r:embed="rId3"/>
          <a:stretch/>
        </p:blipFill>
        <p:spPr>
          <a:xfrm>
            <a:off x="4038480" y="3352680"/>
            <a:ext cx="2746440" cy="198144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8" descr=""/>
          <p:cNvPicPr/>
          <p:nvPr/>
        </p:nvPicPr>
        <p:blipFill>
          <a:blip r:embed="rId4"/>
          <a:stretch/>
        </p:blipFill>
        <p:spPr>
          <a:xfrm>
            <a:off x="4267080" y="1523880"/>
            <a:ext cx="2895840" cy="191160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8" descr="Screen shot 2012-10-04 at 3.14.27 PM.png"/>
          <p:cNvPicPr/>
          <p:nvPr/>
        </p:nvPicPr>
        <p:blipFill>
          <a:blip r:embed="rId5"/>
          <a:stretch/>
        </p:blipFill>
        <p:spPr>
          <a:xfrm>
            <a:off x="304920" y="5410080"/>
            <a:ext cx="85089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oft gluon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457200" y="4495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(a,b) contribute to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2 (j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(c,d) contribute to 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erence contribute to 1/2N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Date Placeholder 3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E05E-3975-4086-98F8-C6C787BB36E1}" type="datetime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Slide Number Placeholder 4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2AED-A068-48DD-9FBD-AB5AD29E8DC3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Picture 7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4419360" cy="2684520"/>
          </a:xfrm>
          <a:prstGeom prst="rect">
            <a:avLst/>
          </a:prstGeom>
          <a:ln w="0">
            <a:noFill/>
          </a:ln>
        </p:spPr>
      </p:pic>
      <p:sp>
        <p:nvSpPr>
          <p:cNvPr id="874" name="Right Arrow 8"/>
          <p:cNvSpPr/>
          <p:nvPr/>
        </p:nvSpPr>
        <p:spPr>
          <a:xfrm>
            <a:off x="4800600" y="2743200"/>
            <a:ext cx="6858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Picture 9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657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 txBox="1"/>
          <p:nvPr/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ffective kt-factor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i-jet correlations in 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Date Placeholder 3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F3A4-31F0-43A2-A0C6-683C15CEBD0A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lide Number Placeholder 4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11B1-AF4C-4311-ABA4-E9453708B97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Picture 2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54147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gg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q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457200" y="3962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|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Nc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1/Nc suppr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Date Placeholder 3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9118-66AD-4FA4-9A72-4EBF6709911D}" type="datetime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lide Number Placeholder 4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8D1D-3756-4666-9FC5-B262CE6A4BA4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5" name="Picture 5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3810240" cy="2616480"/>
          </a:xfrm>
          <a:prstGeom prst="rect">
            <a:avLst/>
          </a:prstGeom>
          <a:ln w="0">
            <a:noFill/>
          </a:ln>
        </p:spPr>
      </p:pic>
      <p:pic>
        <p:nvPicPr>
          <p:cNvPr id="886" name="Picture 6" descr=""/>
          <p:cNvPicPr/>
          <p:nvPr/>
        </p:nvPicPr>
        <p:blipFill>
          <a:blip r:embed="rId2"/>
          <a:stretch/>
        </p:blipFill>
        <p:spPr>
          <a:xfrm>
            <a:off x="4952880" y="2133720"/>
            <a:ext cx="3786480" cy="761760"/>
          </a:xfrm>
          <a:prstGeom prst="rect">
            <a:avLst/>
          </a:prstGeom>
          <a:ln w="0">
            <a:noFill/>
          </a:ln>
        </p:spPr>
      </p:pic>
      <p:sp>
        <p:nvSpPr>
          <p:cNvPr id="887" name="Right Arrow 7"/>
          <p:cNvSpPr/>
          <p:nvPr/>
        </p:nvSpPr>
        <p:spPr>
          <a:xfrm>
            <a:off x="4419720" y="2362320"/>
            <a:ext cx="533160" cy="30456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qg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q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57200" y="3962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|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Nc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arge Nc suppr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Date Placeholder 3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3B4F-3498-458F-8EDC-44A6BA4D9531}" type="datetime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lide Number Placeholder 4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8A71-6889-4440-B613-346F430CBB15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ight Arrow 7"/>
          <p:cNvSpPr/>
          <p:nvPr/>
        </p:nvSpPr>
        <p:spPr>
          <a:xfrm>
            <a:off x="4419720" y="2362320"/>
            <a:ext cx="533160" cy="30456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3" name="Picture 8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3803760" cy="260352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9" descr=""/>
          <p:cNvPicPr/>
          <p:nvPr/>
        </p:nvPicPr>
        <p:blipFill>
          <a:blip r:embed="rId2"/>
          <a:stretch/>
        </p:blipFill>
        <p:spPr>
          <a:xfrm>
            <a:off x="5181480" y="2057400"/>
            <a:ext cx="3657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gg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g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457200" y="41148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|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+2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N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Date Placeholder 3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585E-1DF1-4BFC-848A-79EDFD77C9CC}" type="datetime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lide Number Placeholder 4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12D5-AB87-4F42-947F-ACAFE5D0CFA9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Picture 6" descr=""/>
          <p:cNvPicPr/>
          <p:nvPr/>
        </p:nvPicPr>
        <p:blipFill>
          <a:blip r:embed="rId1"/>
          <a:stretch/>
        </p:blipFill>
        <p:spPr>
          <a:xfrm>
            <a:off x="4952880" y="2286000"/>
            <a:ext cx="3786480" cy="762120"/>
          </a:xfrm>
          <a:prstGeom prst="rect">
            <a:avLst/>
          </a:prstGeom>
          <a:ln w="0">
            <a:noFill/>
          </a:ln>
        </p:spPr>
      </p:pic>
      <p:sp>
        <p:nvSpPr>
          <p:cNvPr id="900" name="Right Arrow 7"/>
          <p:cNvSpPr/>
          <p:nvPr/>
        </p:nvSpPr>
        <p:spPr>
          <a:xfrm>
            <a:off x="4419720" y="2514600"/>
            <a:ext cx="533160" cy="304920"/>
          </a:xfrm>
          <a:prstGeom prst="rightArrow">
            <a:avLst>
              <a:gd name="adj1" fmla="val 50000"/>
              <a:gd name="adj2" fmla="val 49954"/>
            </a:avLst>
          </a:pr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1" name="Picture 8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365760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udakov leading double lo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incoming parton contributes to a half of the associated color fa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gluon radiation, aka, TM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 gluon radiation in collinear calculation also demonstrates this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man, et 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-leading logs will be much complicated, usually a matrix 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Date Placeholder 3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BA7B-7B85-45A6-929A-80DB4088AD0B}" type="datetime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Slide Number Placeholder 4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C818-A83A-48F6-BB9D-D3F08338124C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Conclu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68544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udakov double logs can be re-summed in the small-x saturation form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oft gluon and collinear gluon radiation is well separated in phas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Shall provide arguments to apply the effective kt-factorization to describe dijet correlation in pA coll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Date Placeholder 3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7E9A-B7BC-4A0F-9C2A-4CB5C2D1852D}" type="datetime">
              <a:rPr b="0" lang="en-US" sz="1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FE6A-70AE-4B79-B31C-57FC8613E4A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Slide Number Placeholder 4"/>
          <p:cNvSpPr/>
          <p:nvPr/>
        </p:nvSpPr>
        <p:spPr>
          <a:xfrm>
            <a:off x="4648320" y="6477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CE7B-671F-4910-8D3A-E91B36C73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Sudakov Large Double Logarith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ifferential cross section depends on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Comic Sans MS"/>
              </a:rPr>
              <a:t>1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where 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&gt;&gt;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Comic Sans MS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&gt;&gt;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  <a:ea typeface="Comic Sans MS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Comic Sans MS"/>
              </a:rPr>
              <a:t>Q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We have to resum these large logs to make reliable pred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  <a:ea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: Dokshitzer, Diakonov, Troian, 78; Parisi Petronzio, 79; Collins, Soper, Sterman, 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hreshold: Sterman 87; Catani and Trentadue 89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7" descr="txp_fig"/>
          <p:cNvPicPr/>
          <p:nvPr/>
        </p:nvPicPr>
        <p:blipFill>
          <a:blip r:embed="rId1"/>
          <a:stretch/>
        </p:blipFill>
        <p:spPr>
          <a:xfrm>
            <a:off x="762120" y="2971800"/>
            <a:ext cx="7656480" cy="1093680"/>
          </a:xfrm>
          <a:prstGeom prst="rect">
            <a:avLst/>
          </a:prstGeom>
          <a:ln w="0">
            <a:noFill/>
          </a:ln>
        </p:spPr>
      </p:pic>
      <p:sp>
        <p:nvSpPr>
          <p:cNvPr id="741" name="TextBox 1"/>
          <p:cNvSpPr/>
          <p:nvPr/>
        </p:nvSpPr>
        <p:spPr>
          <a:xfrm>
            <a:off x="6784920" y="137160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18ff"/>
                </a:solidFill>
                <a:latin typeface="Arial"/>
              </a:rPr>
              <a:t>Sudakov, 19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Slide Number Placeholder 4"/>
          <p:cNvSpPr/>
          <p:nvPr/>
        </p:nvSpPr>
        <p:spPr>
          <a:xfrm>
            <a:off x="4648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C834-7873-4FDB-A703-B902D0C25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How Large of the Resummation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Picture 7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5867280" cy="4532400"/>
          </a:xfrm>
          <a:prstGeom prst="rect">
            <a:avLst/>
          </a:prstGeom>
          <a:ln w="0">
            <a:noFill/>
          </a:ln>
        </p:spPr>
      </p:pic>
      <p:grpSp>
        <p:nvGrpSpPr>
          <p:cNvPr id="746" name="Group 2"/>
          <p:cNvGrpSpPr/>
          <p:nvPr/>
        </p:nvGrpSpPr>
        <p:grpSpPr>
          <a:xfrm>
            <a:off x="2438280" y="3733920"/>
            <a:ext cx="1579320" cy="431640"/>
            <a:chOff x="2438280" y="3733920"/>
            <a:chExt cx="1579320" cy="431640"/>
          </a:xfrm>
        </p:grpSpPr>
        <p:sp>
          <p:nvSpPr>
            <p:cNvPr id="747" name="Line 8"/>
            <p:cNvSpPr/>
            <p:nvPr/>
          </p:nvSpPr>
          <p:spPr>
            <a:xfrm flipH="1">
              <a:off x="2438280" y="3936960"/>
              <a:ext cx="609840" cy="228600"/>
            </a:xfrm>
            <a:prstGeom prst="line">
              <a:avLst/>
            </a:prstGeom>
            <a:ln w="57240">
              <a:solidFill>
                <a:srgbClr val="e3230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Text Box 10"/>
            <p:cNvSpPr/>
            <p:nvPr/>
          </p:nvSpPr>
          <p:spPr>
            <a:xfrm>
              <a:off x="2988000" y="3733920"/>
              <a:ext cx="102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32303"/>
                  </a:solidFill>
                  <a:latin typeface="Arial"/>
                  <a:ea typeface="Arial"/>
                </a:rPr>
                <a:t>Resu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Group 1"/>
          <p:cNvGrpSpPr/>
          <p:nvPr/>
        </p:nvGrpSpPr>
        <p:grpSpPr>
          <a:xfrm>
            <a:off x="2453760" y="5028840"/>
            <a:ext cx="724680" cy="1110600"/>
            <a:chOff x="2453760" y="5028840"/>
            <a:chExt cx="724680" cy="1110600"/>
          </a:xfrm>
        </p:grpSpPr>
        <p:sp>
          <p:nvSpPr>
            <p:cNvPr id="750" name="Line 9"/>
            <p:cNvSpPr/>
            <p:nvPr/>
          </p:nvSpPr>
          <p:spPr>
            <a:xfrm flipH="1" flipV="1">
              <a:off x="2453760" y="5028840"/>
              <a:ext cx="304920" cy="762120"/>
            </a:xfrm>
            <a:prstGeom prst="line">
              <a:avLst/>
            </a:prstGeom>
            <a:ln w="57240">
              <a:solidFill>
                <a:srgbClr val="66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Text Box 11"/>
            <p:cNvSpPr/>
            <p:nvPr/>
          </p:nvSpPr>
          <p:spPr>
            <a:xfrm>
              <a:off x="2459880" y="5740560"/>
              <a:ext cx="71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ff66"/>
                  </a:solidFill>
                  <a:latin typeface="Arial"/>
                  <a:ea typeface="Arial"/>
                </a:rPr>
                <a:t>N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Text Box 12"/>
          <p:cNvSpPr/>
          <p:nvPr/>
        </p:nvSpPr>
        <p:spPr>
          <a:xfrm>
            <a:off x="4777560" y="6019920"/>
            <a:ext cx="421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Kulesza, Sterman, Vogelsang, 02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Slide Number Placeholder 4"/>
          <p:cNvSpPr/>
          <p:nvPr/>
        </p:nvSpPr>
        <p:spPr>
          <a:xfrm>
            <a:off x="4648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F332-A4A6-4C41-9160-C6C07771D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991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Collins-Soper-Sterman Resum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51920" y="13716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Introduce a new concept, the Transverse Momentum Dependent 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Prove the Factorization in terms of the TM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</a:t>
            </a:r>
            <a:r>
              <a:rPr b="0" lang="en-US" sz="3200" spc="-1" strike="noStrike">
                <a:solidFill>
                  <a:srgbClr val="e32303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>
                <a:solidFill>
                  <a:srgbClr val="e32303"/>
                </a:solidFill>
                <a:latin typeface="Comic Sans MS"/>
                <a:ea typeface="Comic Sans MS"/>
              </a:rPr>
              <a:t>(P</a:t>
            </a:r>
            <a:r>
              <a:rPr b="0" lang="en-US" sz="3200" spc="-1" strike="noStrike" baseline="-25000">
                <a:solidFill>
                  <a:srgbClr val="e32303"/>
                </a:solidFill>
                <a:latin typeface="Comic Sans MS"/>
                <a:ea typeface="Comic Sans MS"/>
              </a:rPr>
              <a:t>T</a:t>
            </a:r>
            <a:r>
              <a:rPr b="0" lang="en-US" sz="3200" spc="-1" strike="noStrike">
                <a:solidFill>
                  <a:srgbClr val="e32303"/>
                </a:solidFill>
                <a:latin typeface="Comic Sans MS"/>
                <a:ea typeface="Comic Sans MS"/>
              </a:rPr>
              <a:t>,Q)=H(Q) f</a:t>
            </a:r>
            <a:r>
              <a:rPr b="0" lang="en-US" sz="3200" spc="-1" strike="noStrike" baseline="-25000">
                <a:solidFill>
                  <a:srgbClr val="e32303"/>
                </a:solidFill>
                <a:latin typeface="Comic Sans MS"/>
                <a:ea typeface="Comic Sans MS"/>
              </a:rPr>
              <a:t>1</a:t>
            </a:r>
            <a:r>
              <a:rPr b="0" lang="en-US" sz="3200" spc="-1" strike="noStrike">
                <a:solidFill>
                  <a:srgbClr val="e32303"/>
                </a:solidFill>
                <a:latin typeface="Comic Sans MS"/>
                <a:ea typeface="Comic Sans MS"/>
              </a:rPr>
              <a:t>(k</a:t>
            </a:r>
            <a:r>
              <a:rPr b="0" lang="en-US" sz="3200" spc="-1" strike="noStrike" baseline="-25000">
                <a:solidFill>
                  <a:srgbClr val="e32303"/>
                </a:solidFill>
                <a:latin typeface="Comic Sans MS"/>
                <a:ea typeface="Comic Sans MS"/>
              </a:rPr>
              <a:t>1T</a:t>
            </a:r>
            <a:r>
              <a:rPr b="0" lang="en-US" sz="3200" spc="-1" strike="noStrike">
                <a:solidFill>
                  <a:srgbClr val="e32303"/>
                </a:solidFill>
                <a:latin typeface="Comic Sans MS"/>
                <a:ea typeface="Comic Sans MS"/>
              </a:rPr>
              <a:t>,Q) f</a:t>
            </a:r>
            <a:r>
              <a:rPr b="0" lang="en-US" sz="3200" spc="-1" strike="noStrike" baseline="-25000">
                <a:solidFill>
                  <a:srgbClr val="e32303"/>
                </a:solidFill>
                <a:latin typeface="Comic Sans MS"/>
                <a:ea typeface="Comic Sans MS"/>
              </a:rPr>
              <a:t>2</a:t>
            </a:r>
            <a:r>
              <a:rPr b="0" lang="en-US" sz="3200" spc="-1" strike="noStrike">
                <a:solidFill>
                  <a:srgbClr val="e32303"/>
                </a:solidFill>
                <a:latin typeface="Comic Sans MS"/>
                <a:ea typeface="Comic Sans MS"/>
              </a:rPr>
              <a:t>(k</a:t>
            </a:r>
            <a:r>
              <a:rPr b="0" lang="en-US" sz="3200" spc="-1" strike="noStrike" baseline="-25000">
                <a:solidFill>
                  <a:srgbClr val="e32303"/>
                </a:solidFill>
                <a:latin typeface="Comic Sans MS"/>
                <a:ea typeface="Comic Sans MS"/>
              </a:rPr>
              <a:t>2T</a:t>
            </a:r>
            <a:r>
              <a:rPr b="0" lang="en-US" sz="3200" spc="-1" strike="noStrike">
                <a:solidFill>
                  <a:srgbClr val="e32303"/>
                </a:solidFill>
                <a:latin typeface="Comic Sans MS"/>
                <a:ea typeface="Comic Sans MS"/>
              </a:rPr>
              <a:t>, Q) S(</a:t>
            </a:r>
            <a:r>
              <a:rPr b="0" lang="en-US" sz="3200" spc="-1" strike="noStrike">
                <a:solidFill>
                  <a:srgbClr val="e32303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 baseline="-25000">
                <a:solidFill>
                  <a:srgbClr val="e32303"/>
                </a:solidFill>
                <a:latin typeface="Comic Sans MS"/>
                <a:ea typeface="Comic Sans MS"/>
              </a:rPr>
              <a:t>T</a:t>
            </a:r>
            <a:r>
              <a:rPr b="0" lang="en-US" sz="3200" spc="-1" strike="noStrike">
                <a:solidFill>
                  <a:srgbClr val="e32303"/>
                </a:solidFill>
                <a:latin typeface="Comic Sans MS"/>
                <a:ea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Large Logs are resummed by solving the energy evolution equation of the TM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Picture 5" descr="txp_fig"/>
          <p:cNvPicPr/>
          <p:nvPr/>
        </p:nvPicPr>
        <p:blipFill>
          <a:blip r:embed="rId1"/>
          <a:stretch/>
        </p:blipFill>
        <p:spPr>
          <a:xfrm>
            <a:off x="838080" y="5334120"/>
            <a:ext cx="7323120" cy="742680"/>
          </a:xfrm>
          <a:prstGeom prst="rect">
            <a:avLst/>
          </a:prstGeom>
          <a:ln w="0">
            <a:noFill/>
          </a:ln>
        </p:spPr>
      </p:pic>
      <p:sp>
        <p:nvSpPr>
          <p:cNvPr id="757" name="Text Box 6"/>
          <p:cNvSpPr/>
          <p:nvPr/>
        </p:nvSpPr>
        <p:spPr>
          <a:xfrm>
            <a:off x="3973680" y="6172200"/>
            <a:ext cx="51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Arial"/>
                <a:ea typeface="Arial"/>
              </a:rPr>
              <a:t>(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Collins-Soper 81, Collins-Soper-Sterman 85</a:t>
            </a:r>
            <a:r>
              <a:rPr b="1" lang="en-US" sz="2800" spc="-1" strike="noStrike">
                <a:solidFill>
                  <a:srgbClr val="66ff66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Slide Number Placeholder 4"/>
          <p:cNvSpPr/>
          <p:nvPr/>
        </p:nvSpPr>
        <p:spPr>
          <a:xfrm>
            <a:off x="4648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5C2B-970B-4E39-8EA3-84C8422F5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CSS Formalism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K and G obey the renormalization group eq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he large logs will be resummed into the exponential form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A,B,C functions are perturbative calcul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Picture 4" descr="txp_fig"/>
          <p:cNvPicPr/>
          <p:nvPr/>
        </p:nvPicPr>
        <p:blipFill>
          <a:blip r:embed="rId1"/>
          <a:stretch/>
        </p:blipFill>
        <p:spPr>
          <a:xfrm>
            <a:off x="2057400" y="2133720"/>
            <a:ext cx="4419720" cy="866520"/>
          </a:xfrm>
          <a:prstGeom prst="rect">
            <a:avLst/>
          </a:prstGeom>
          <a:ln w="0">
            <a:noFill/>
          </a:ln>
        </p:spPr>
      </p:pic>
      <p:pic>
        <p:nvPicPr>
          <p:cNvPr id="762" name="Picture 5" descr="txp_fig"/>
          <p:cNvPicPr/>
          <p:nvPr/>
        </p:nvPicPr>
        <p:blipFill>
          <a:blip r:embed="rId2"/>
          <a:stretch/>
        </p:blipFill>
        <p:spPr>
          <a:xfrm>
            <a:off x="762120" y="4267080"/>
            <a:ext cx="8001000" cy="744480"/>
          </a:xfrm>
          <a:prstGeom prst="rect">
            <a:avLst/>
          </a:prstGeom>
          <a:ln w="0">
            <a:noFill/>
          </a:ln>
        </p:spPr>
      </p:pic>
      <p:sp>
        <p:nvSpPr>
          <p:cNvPr id="763" name="Text Box 6"/>
          <p:cNvSpPr/>
          <p:nvPr/>
        </p:nvSpPr>
        <p:spPr>
          <a:xfrm>
            <a:off x="4087440" y="5867280"/>
            <a:ext cx="476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Arial"/>
                <a:ea typeface="Arial"/>
              </a:rPr>
              <a:t>(Collins-Soper-Sterman 8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Slide Number Placeholder 4"/>
          <p:cNvSpPr/>
          <p:nvPr/>
        </p:nvSpPr>
        <p:spPr>
          <a:xfrm>
            <a:off x="4648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3F69-9F21-45A1-89D6-5FE9AF349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Two Large Scales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Very success in application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IS and Drell-Yan at small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(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Resu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DIS and Drell-Yan at large x (Threshold Res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Higgs production at small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  <a:ea typeface="Comic Sans MS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or large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Thrust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Jet shape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1" descr="Screen shot 2012-10-03 at 3.04.08 PM.png"/>
          <p:cNvPicPr/>
          <p:nvPr/>
        </p:nvPicPr>
        <p:blipFill>
          <a:blip r:embed="rId1"/>
          <a:stretch/>
        </p:blipFill>
        <p:spPr>
          <a:xfrm>
            <a:off x="4800600" y="3710160"/>
            <a:ext cx="3352680" cy="3147840"/>
          </a:xfrm>
          <a:prstGeom prst="rect">
            <a:avLst/>
          </a:prstGeom>
          <a:ln w="0">
            <a:noFill/>
          </a:ln>
        </p:spPr>
      </p:pic>
      <p:sp>
        <p:nvSpPr>
          <p:cNvPr id="768" name="TextBox 2"/>
          <p:cNvSpPr/>
          <p:nvPr/>
        </p:nvSpPr>
        <p:spPr>
          <a:xfrm>
            <a:off x="928800" y="5715000"/>
            <a:ext cx="391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Bos: Nadolsky, et al., PRD 200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S resummation buil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State of art of the PD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sp>
        <p:nvSpPr>
          <p:cNvPr id="771" name="Date Placeholder 3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FF49-DEA5-4ABA-A42C-9AD348B5067A}" type="datetime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Slide Number Placeholder 4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1BF0-187F-41AB-AF83-7DA24C21F458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5" descr="Screen shot 2012-10-04 at 10.38.05 AM.png"/>
          <p:cNvPicPr/>
          <p:nvPr/>
        </p:nvPicPr>
        <p:blipFill>
          <a:blip r:embed="rId2"/>
          <a:stretch/>
        </p:blipFill>
        <p:spPr>
          <a:xfrm>
            <a:off x="304920" y="1600200"/>
            <a:ext cx="4190760" cy="4648320"/>
          </a:xfrm>
          <a:prstGeom prst="rect">
            <a:avLst/>
          </a:prstGeom>
          <a:ln w="0">
            <a:noFill/>
          </a:ln>
        </p:spPr>
      </p:pic>
      <p:pic>
        <p:nvPicPr>
          <p:cNvPr id="774" name="Picture 6" descr="Screen shot 2012-10-04 at 10.36.33 AM.png"/>
          <p:cNvPicPr/>
          <p:nvPr/>
        </p:nvPicPr>
        <p:blipFill>
          <a:blip r:embed="rId3"/>
          <a:stretch/>
        </p:blipFill>
        <p:spPr>
          <a:xfrm>
            <a:off x="4724280" y="1523880"/>
            <a:ext cx="417204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  <a:ea typeface="Comic Sans MS"/>
              </a:rPr>
              <a:t>BFKL evolution becomes relevant at small-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Balitsky-Fadin-Lipatov-Kuraev, 1977-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Balitsky-Kovchegov: Non-linear term, 9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Date Placeholder 3"/>
          <p:cNvSpPr/>
          <p:nvPr/>
        </p:nvSpPr>
        <p:spPr>
          <a:xfrm>
            <a:off x="29718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5C91-4FA6-4D6F-9394-8037A868854A}" type="datetime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4"/>
          <p:cNvSpPr/>
          <p:nvPr/>
        </p:nvSpPr>
        <p:spPr>
          <a:xfrm>
            <a:off x="80010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8FCA8-006A-400A-8C01-F7013C517073}" type="slidenum"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6" descr="Screen shot 2012-10-04 at 2.49.03 PM.png"/>
          <p:cNvPicPr/>
          <p:nvPr/>
        </p:nvPicPr>
        <p:blipFill>
          <a:blip r:embed="rId1"/>
          <a:stretch/>
        </p:blipFill>
        <p:spPr>
          <a:xfrm>
            <a:off x="1828800" y="5257800"/>
            <a:ext cx="4064040" cy="120636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8" descr="Screen shot 2012-10-04 at 2.49.14 PM.png"/>
          <p:cNvPicPr/>
          <p:nvPr/>
        </p:nvPicPr>
        <p:blipFill>
          <a:blip r:embed="rId2"/>
          <a:stretch/>
        </p:blipFill>
        <p:spPr>
          <a:xfrm>
            <a:off x="1447920" y="4419720"/>
            <a:ext cx="5626080" cy="723960"/>
          </a:xfrm>
          <a:prstGeom prst="rect">
            <a:avLst/>
          </a:prstGeom>
          <a:ln w="0">
            <a:noFill/>
          </a:ln>
        </p:spPr>
      </p:pic>
      <p:pic>
        <p:nvPicPr>
          <p:cNvPr id="781" name="Picture 9" descr="Screen shot 2012-10-04 at 2.48.44 PM.png"/>
          <p:cNvPicPr/>
          <p:nvPr/>
        </p:nvPicPr>
        <p:blipFill>
          <a:blip r:embed="rId3"/>
          <a:stretch/>
        </p:blipFill>
        <p:spPr>
          <a:xfrm>
            <a:off x="1676520" y="2743200"/>
            <a:ext cx="44114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5T18:54:39Z</dcterms:created>
  <dc:creator>Feng Yuan</dc:creator>
  <dc:description/>
  <dc:language>en-US</dc:language>
  <cp:lastModifiedBy>Feng Yuan</cp:lastModifiedBy>
  <dcterms:modified xsi:type="dcterms:W3CDTF">2013-04-25T19:12:05Z</dcterms:modified>
  <cp:revision>281</cp:revision>
  <dc:subject/>
  <dc:title>QCD Factorization for Semi-Inclusive DIS</dc:title>
</cp:coreProperties>
</file>